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45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34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51.jpeg" ContentType="image/jpeg"/>
  <Override PartName="/ppt/media/image46.jpeg" ContentType="image/jpeg"/>
  <Override PartName="/ppt/media/image9.wmf" ContentType="image/x-wmf"/>
  <Override PartName="/ppt/media/image25.png" ContentType="image/pn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12F9-F9E7-4CB5-A9EB-9DD27DA1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25DA-CAA7-4B8B-B02B-9A64A4E6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961-67A8-4540-B516-6A938CD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B27-2CE9-469E-BD65-86EE852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AA9-080F-4135-8A2B-E7E5241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41D-794B-463D-9156-94B0A6CF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83E3-808E-47D8-B095-2F150DF2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0FF-5A4E-4E59-A3FE-F5AA0CF7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F71C-337F-4845-B65A-8761FC91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E834-D6C9-4AC6-907F-6AF86D1F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F8D-D2D9-4AD4-9569-32B0F5C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2AAA-6D02-4335-9F84-ED9D21EA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96A3-926A-46AF-AD61-14F9A8CB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BFE-9EB9-4FAD-BE8F-46FB4D0C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66B-BB32-43FF-B35A-8BD6C70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4601-C3C6-4420-AE4D-5D2FA2A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73B-F481-4DD8-9B9D-2D67DE5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F774-8F2D-4BCD-A718-E5E6A644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F7C-F2E8-4FE6-8CDF-2761F574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1AB3-82FF-4231-9DD0-6A1DF834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09E7-324B-4EE7-9D3B-BECED49D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20A6-CFDA-4CC4-B85C-0E633BD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7058-66B3-4BE4-B9CF-0921290A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34A6-3D6B-4F0F-A348-829825B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475-C16E-46B7-A9B0-DBD4E206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7C2F-37BC-4F7C-8270-DCA2F5F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5503-7E77-4981-AE24-99AABA8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D6AE-B1E9-4845-B802-DA21DC1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5B57-090F-43F3-924A-E24C0A7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5B56-37C3-494C-A4CA-07507725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4FC9-94DA-479D-9F6D-9C0AA6A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E275-909D-4769-A7FA-1B483B21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933C-8CE8-4F16-8B25-342234BE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741C-B351-4996-8AB0-85708281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7290-2864-402B-8E1D-0A24635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ABE-0AFB-4531-A9BE-4D4EB21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94D3-4603-4ABC-BEFA-F12DFF6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F59F-3538-4799-A31E-9FDA02C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AA62-48C9-4AFD-BA70-55D9697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B549-CDB0-4E0E-9343-DE80715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BCF3-F6AF-4E57-B51D-D1C5982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F0F7-2C20-4188-97EA-666671C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50EB-79A7-48A1-88CA-C59F5FC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C6D4-221F-43F1-9120-BB22761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569C-43F8-42FD-B00F-84A72CC6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8B15-03BC-4AA2-95FD-49444C8B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E03-F936-4476-A173-C7F5D14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F5D98-C572-4843-9BC8-7E21FFA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6316-EBD5-47DA-A978-475A91BC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77D0-B425-448D-AE5F-8412B84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AC87-2AC9-48DC-B002-8CDF0F4F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4FD5-B219-4F37-BE9D-C636137E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8D2D-2280-495F-906C-F827CCD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A97F-A5F5-4A93-AF32-191CC06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E05A-005F-4C9E-B794-9C668B5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4195-FD14-49D4-AA56-5A67F771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517E-A778-4A26-A49B-82C89C3A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760-75AB-4B11-96E7-9B7F11E4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0CC1-576B-42C2-B295-FAD060F9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FB40-562A-449C-81EA-69C4EE0E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EB74-6F04-4C14-BB27-2F1C6A9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0BB61-6F6F-4919-BEE4-05827247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D8BA-9BDC-4098-98B4-B14FB777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9E0C-D766-4290-92EB-F5F99B2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5EEB-6113-4730-A87B-B6AC37D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4C0E-B7F1-4478-8B17-102A593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D942-A855-4302-A8E8-DC515DA0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72B4-7D14-4BBB-A0D2-FFCCF3F5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500-3478-426F-91CF-52C792B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6532-6B27-4AD3-984F-C723564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938F-109B-462D-B343-864C307C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DAB5-966B-4241-918C-DA37CE2C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FF82-2CCB-43E9-9EC9-ADDD089D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6699-1079-43EE-B0AC-E7BB621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B20A-E413-4394-8858-BDD3461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F7A5-1E76-47A8-A955-20D207D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775A-E5B1-470D-9F12-88FBD67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27A7-58EA-4E5D-9BD3-3B63E20E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4912-15FE-437B-9168-7E8898E3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95A-FD28-45AE-BEB4-12849DE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EDB12-59FD-4E04-9E2C-A0E3489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01A4-E54C-4DF4-B748-2D23AD3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465C-C77D-4DB1-B73D-EC21F2D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A6B9B-D4FB-457B-B864-BC2884C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3709-2D6B-4C51-A5B2-5B04968D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C4C70-4392-48E1-B6D7-792AED0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E254-57BB-4C2B-9910-5731E52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1D6A-5924-4840-A14A-35BBE016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7697-2CE6-4293-9ECC-D96EB743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E3BE-3E24-4761-8604-01A2A9F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257-CA92-4C00-BB55-8D32888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5FED-DD27-4F24-A46E-3E3C87F2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541F-D981-4784-B262-D69A840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52D2-8681-4737-B597-0F51797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55C7-1E45-45BD-8C52-D29CA7A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F555-AC03-4190-A925-588A5BC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B6D1-9F92-4CE0-A70B-EC07F2E0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9E55-5222-42CB-8C56-88BD8D36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3804-550F-48C4-AD3D-4B37C5F7C62C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4C9-020E-4D26-AAEA-D2215C30FBDA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7BC-F23F-4A30-9E7F-AC871AB4B7DC}" type="slidenum"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332-4107-456B-9D66-865E37212D3D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F649-F4B6-45A8-A8DB-6781FA88F09B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2C25-E089-411E-BF05-F0BE06503807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E5C-F848-4B42-958A-5D3B37579AED}" type="slidenum">
              <a:rPr b="0" lang="en-US" sz="1400" spc="-1" strike="noStrike">
                <a:solidFill>
                  <a:srgbClr val="eeece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67DA-4EFF-4786-8F1E-94EF2DC0B170}" type="slidenum">
              <a:rPr b="0" lang="en-US" sz="1400" spc="-1" strike="noStrike">
                <a:solidFill>
                  <a:srgbClr val="1f497d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google.com/url?sa=i&amp;rct=j&amp;q=&amp;esrc=s&amp;frm=1&amp;source=images&amp;cd=&amp;cad=rja&amp;docid=cm6SdmHUrWYtqM&amp;tbnid=SuvCrw98c1H1aM:&amp;ved=0CAUQjRw&amp;url=http%3A%2F%2Fglossary.periodni.com%2Fdownload_image.php%3Fname%3Ddistillation.png%26source%3Ddistillation&amp;ei=YaokUu7QA4-64AOnzoC4Cw&amp;psig=AFQjCNEi2SEDTJndMry4_UDfpWNwVJ7tOg&amp;ust=1378221019471124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hapter 1</a:t>
            </a:r>
            <a:br>
              <a:rPr sz="3200"/>
            </a:br>
            <a:r>
              <a:rPr b="0" lang="en-US" sz="3100" spc="-1" strike="noStrike">
                <a:solidFill>
                  <a:srgbClr val="c0504d"/>
                </a:solidFill>
                <a:latin typeface="Bookman Old Style"/>
              </a:rPr>
              <a:t>Chemistry:  The Science of Matter</a:t>
            </a:r>
            <a:endParaRPr b="0" lang="en-US" sz="31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Bookman Old Style"/>
              </a:rPr>
              <a:t>Fill in the blanks in your notes with the words bolded in </a:t>
            </a:r>
            <a:r>
              <a:rPr b="1" lang="en-US" sz="1700" spc="-1" strike="noStrike">
                <a:solidFill>
                  <a:srgbClr val="f79646"/>
                </a:solidFill>
                <a:latin typeface="Bookman Old Style"/>
              </a:rPr>
              <a:t>orange</a:t>
            </a:r>
            <a:r>
              <a:rPr b="0" lang="en-US" sz="17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37760" y="9903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38120" y="183780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haracteristics that a sample of matter exhibits without any change in its identity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504960" cy="2152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5760" y="3733560"/>
            <a:ext cx="403992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Chemical Properti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Content Placeholder 4"/>
          <p:cNvSpPr/>
          <p:nvPr/>
        </p:nvSpPr>
        <p:spPr>
          <a:xfrm>
            <a:off x="455760" y="4191120"/>
            <a:ext cx="4038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ability of a substance to combine with or change into one or more other substan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888840" y="1409760"/>
            <a:ext cx="7366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acroscopic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icroscopic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tter that is large enough to be seen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tter that cannot be seen with the naked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546280" y="3095640"/>
            <a:ext cx="3673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 observation that can be made without measuremen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 observation that uses measuremen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07" name="Picture 2" descr="C:\Users\bjones\AppData\Local\Microsoft\Windows\Temporary Internet Files\Content.IE5\0ZKF0277\MC900290924[1].wmf"/>
          <p:cNvPicPr/>
          <p:nvPr/>
        </p:nvPicPr>
        <p:blipFill>
          <a:blip r:embed="rId1"/>
          <a:stretch/>
        </p:blipFill>
        <p:spPr>
          <a:xfrm>
            <a:off x="6858000" y="365760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bjones\AppData\Local\Microsoft\Windows\Temporary Internet Files\Content.IE5\SC43B9M9\MC900149862[1].wmf"/>
          <p:cNvPicPr/>
          <p:nvPr/>
        </p:nvPicPr>
        <p:blipFill>
          <a:blip r:embed="rId2"/>
          <a:stretch/>
        </p:blipFill>
        <p:spPr>
          <a:xfrm>
            <a:off x="4952880" y="3352680"/>
            <a:ext cx="1320840" cy="2714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bjones\AppData\Local\Microsoft\Windows\Temporary Internet Files\Content.IE5\0ZKF0277\MC900232282[1].wmf"/>
          <p:cNvPicPr/>
          <p:nvPr/>
        </p:nvPicPr>
        <p:blipFill>
          <a:blip r:embed="rId3"/>
          <a:stretch/>
        </p:blipFill>
        <p:spPr>
          <a:xfrm>
            <a:off x="1035000" y="3809880"/>
            <a:ext cx="2851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you should read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pages 3-15 in your textbook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9-13, and your notes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hould be able to complete homework #1, part B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54380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tle 3"/>
          <p:cNvSpPr/>
          <p:nvPr/>
        </p:nvSpPr>
        <p:spPr>
          <a:xfrm>
            <a:off x="1101600" y="4267080"/>
            <a:ext cx="69645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http://www.geog.ucsb.edu/img/news/2008/ginkgo_leaf.JPG"/>
          <p:cNvPicPr/>
          <p:nvPr/>
        </p:nvPicPr>
        <p:blipFill>
          <a:blip r:embed="rId1"/>
          <a:stretch/>
        </p:blipFill>
        <p:spPr>
          <a:xfrm>
            <a:off x="2743200" y="1752480"/>
            <a:ext cx="3341520" cy="28702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"/>
          <p:cNvSpPr/>
          <p:nvPr/>
        </p:nvSpPr>
        <p:spPr>
          <a:xfrm>
            <a:off x="1371600" y="4869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lor a physical or chemical property of matter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6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18" name="Title 3"/>
          <p:cNvSpPr/>
          <p:nvPr/>
        </p:nvSpPr>
        <p:spPr>
          <a:xfrm>
            <a:off x="1143000" y="472428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Both of these are mixtur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Explain</a:t>
            </a: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 how they are different from one another (besides their physical stat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http://3.bp.blogspot.com/_EgPcrnOHcjA/TL_Cdd5cZqI/AAAAAAAABCk/V7eiWmRkOuE/s1600/gatorade.jpg"/>
          <p:cNvPicPr/>
          <p:nvPr/>
        </p:nvPicPr>
        <p:blipFill>
          <a:blip r:embed="rId1"/>
          <a:stretch/>
        </p:blipFill>
        <p:spPr>
          <a:xfrm>
            <a:off x="2133720" y="1986120"/>
            <a:ext cx="1817640" cy="2617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http://library.thinkquest.org/05aug/00461/images/granite.jpg"/>
          <p:cNvPicPr/>
          <p:nvPr/>
        </p:nvPicPr>
        <p:blipFill>
          <a:blip r:embed="rId2"/>
          <a:stretch/>
        </p:blipFill>
        <p:spPr>
          <a:xfrm>
            <a:off x="4267080" y="2133720"/>
            <a:ext cx="3094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assifications of Matter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36400" y="1352520"/>
            <a:ext cx="8071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ixtur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3143160"/>
            <a:ext cx="404028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Heterogeneous Mixtu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4720" y="3132000"/>
            <a:ext cx="404172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Homogeneous Mixtur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28600" y="3580920"/>
            <a:ext cx="419400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mixture with different composition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5080" y="3598920"/>
            <a:ext cx="40384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mixture that is the same throughout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t is also referred to as 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solu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45720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mixtur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is a combination of two or more substances in which the basic identity of each substance is not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3427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76000"/>
              <a:buFont typeface="Bookman Old Style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ixtures can be separated into its components by physical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"/>
          <p:cNvPicPr/>
          <p:nvPr/>
        </p:nvPicPr>
        <p:blipFill>
          <a:blip r:embed="rId2"/>
          <a:stretch/>
        </p:blipFill>
        <p:spPr>
          <a:xfrm>
            <a:off x="7010280" y="5029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ypes of Solution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Solid Solutions: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Alloy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are solid solutions that contain different metals and sometimes nonmetallic substance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Liquid Solutions: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solut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ubstance that is being dissolved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solven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ubstance that does the dissolving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096920" indent="-228600">
              <a:spcBef>
                <a:spcPts val="400"/>
              </a:spcBef>
              <a:buClr>
                <a:srgbClr val="a94543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When the solvent is water, the solution is called </a:t>
            </a:r>
            <a:r>
              <a:rPr b="1" lang="en-US" sz="1800" spc="-1" strike="noStrike">
                <a:solidFill>
                  <a:srgbClr val="f79646"/>
                </a:solidFill>
                <a:latin typeface="Bookman Old Style"/>
              </a:rPr>
              <a:t>an aqueous solution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2"/>
          <a:stretch/>
        </p:blipFill>
        <p:spPr>
          <a:xfrm>
            <a:off x="3119400" y="243828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1295280" y="21337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st the senses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hat can be used to make an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Which one should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definitely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not use in a chemistry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7467480" y="76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Separation Techniqu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Filtr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 mixture with widely varying particles siz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Distill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 liquid mixtur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rystallization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ed to separate an aqueous solution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hromatography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parates a mixture based on polarity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304920" y="6019920"/>
            <a:ext cx="86104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143000" cy="1816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http://www.periodni.com/gallery/distilla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4651200"/>
            <a:ext cx="1828800" cy="2011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www.reciprocalnet.org/edumodules/crystallization/images/crystallization.jpg"/>
          <p:cNvPicPr/>
          <p:nvPr/>
        </p:nvPicPr>
        <p:blipFill>
          <a:blip r:embed="rId4"/>
          <a:stretch/>
        </p:blipFill>
        <p:spPr>
          <a:xfrm>
            <a:off x="4964040" y="5010120"/>
            <a:ext cx="1890720" cy="1533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9" descr=""/>
          <p:cNvPicPr/>
          <p:nvPr/>
        </p:nvPicPr>
        <p:blipFill>
          <a:blip r:embed="rId5"/>
          <a:stretch/>
        </p:blipFill>
        <p:spPr>
          <a:xfrm>
            <a:off x="7315200" y="4929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18-31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#17-20, and your notes,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you should be able to complete homework #2, part A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hat kind of mixture does this represent?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2316240" y="1905120"/>
            <a:ext cx="4160880" cy="25938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385560" y="523224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w could you separate it into its individual compon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bostonpersonalinjurylawyerblog.com/Hot%20Coffee.jpg"/>
          <p:cNvPicPr/>
          <p:nvPr/>
        </p:nvPicPr>
        <p:blipFill>
          <a:blip r:embed="rId1"/>
          <a:stretch/>
        </p:blipFill>
        <p:spPr>
          <a:xfrm>
            <a:off x="2797200" y="3192480"/>
            <a:ext cx="3657600" cy="28130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746748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itle 3"/>
          <p:cNvSpPr/>
          <p:nvPr/>
        </p:nvSpPr>
        <p:spPr>
          <a:xfrm>
            <a:off x="1143000" y="167652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Name</a:t>
            </a:r>
            <a:r>
              <a:rPr b="0" lang="en-US" sz="2700" spc="-1" strike="noStrike">
                <a:solidFill>
                  <a:srgbClr val="0d0d0d"/>
                </a:solidFill>
                <a:latin typeface="Bookman Old Style"/>
              </a:rPr>
              <a:t> the separation technique is used to make coffee or te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Physical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physical chang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a change in matter that does not involve a change in the identity of individual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atter exists in one of three states (solid, liquid, or gas) depending on its temperatur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Any change in state is a physical chang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f a substance is described as being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volatile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, it becomes a gas easily at room temperatur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ixtures are separated by a physical change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295280" y="508644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2"/>
          <a:stretch/>
        </p:blipFill>
        <p:spPr>
          <a:xfrm>
            <a:off x="4898880" y="5086440"/>
            <a:ext cx="2438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Substanc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Compound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00240" y="114264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Bookman Old Style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1828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s type of pure substance can be broken down into simpler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64600" indent="-2646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t is a chemical combination of two or more different elements joined together in a fixed proportion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48320" y="1828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is type of pure substance cannot be broken down into simpler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y are the simplest form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"/>
          <a:stretch/>
        </p:blipFill>
        <p:spPr>
          <a:xfrm>
            <a:off x="5791320" y="47052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2"/>
          <a:srcRect l="50004" t="5048" r="0" b="7688"/>
          <a:stretch/>
        </p:blipFill>
        <p:spPr>
          <a:xfrm>
            <a:off x="7620120" y="4705200"/>
            <a:ext cx="1233360" cy="1257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"/>
          <p:cNvPicPr/>
          <p:nvPr/>
        </p:nvPicPr>
        <p:blipFill>
          <a:blip r:embed="rId3"/>
          <a:stretch/>
        </p:blipFill>
        <p:spPr>
          <a:xfrm>
            <a:off x="3962520" y="4705200"/>
            <a:ext cx="1670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ompound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properties of a compound are different from the properties of the elements that compose the compound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formula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a combination of the chemical symbols that show what elements make up a compound and the number of atoms of each elemen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substanc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matter with the same fixed composition and properti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ings that are pure are made up of only one kind of matter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Compounds are separated into their component elements by chemical mean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hemical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chemical change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s a process that involves one or more substances changing into new substanc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t is also referred to as a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hemical reac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e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law of conservation of mass 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(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tter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) says that in a chemical change matter is neither created nor destroyed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470" name="Picture 8" descr="https://encrypted-tbn3.gstatic.com/images?q=tbn:ANd9GcTblwXV22wBq1HYKlmy_NWnMZ4QjiZLLC7MVJSw8h5gKUY0hEyPLw"/>
          <p:cNvPicPr/>
          <p:nvPr/>
        </p:nvPicPr>
        <p:blipFill>
          <a:blip r:embed="rId1"/>
          <a:stretch/>
        </p:blipFill>
        <p:spPr>
          <a:xfrm>
            <a:off x="914400" y="4343400"/>
            <a:ext cx="2362320" cy="1933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"/>
          <p:cNvSpPr/>
          <p:nvPr/>
        </p:nvSpPr>
        <p:spPr>
          <a:xfrm>
            <a:off x="3790800" y="4800600"/>
            <a:ext cx="377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5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38 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-&gt; 25 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26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nergy Change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hemical changes involve an energy change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Energ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capacity to do work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done whenever something is moved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mical reactions that give off heat energy are called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exotherm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mical reactions that absorb heat energy are called </a:t>
            </a: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endotherm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2471760" y="3809880"/>
            <a:ext cx="2390760" cy="239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1768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18-31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With the reading, slides #24-28, and your notes,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you should be able to complete homework #2, Part B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 Scientific Metho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scientific method is the systematic approach used in scientific study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Observat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the act of gathering information by using your senses on a macroscopic level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Hypothesis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testable prediction used to explain an observation (if, then)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Experiment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set of observations used to test a hypothesi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trol, independent variable, dependent variable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Conclusion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addresses whether or not the hypothesis is supported by the results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1344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79" name="Title 3"/>
          <p:cNvSpPr/>
          <p:nvPr/>
        </p:nvSpPr>
        <p:spPr>
          <a:xfrm>
            <a:off x="824040" y="4813200"/>
            <a:ext cx="696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List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which of the following represent a physical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http://stainednapkin.files.wordpress.com/2011/09/boiling-water.jpg"/>
          <p:cNvPicPr/>
          <p:nvPr/>
        </p:nvPicPr>
        <p:blipFill>
          <a:blip r:embed="rId1"/>
          <a:srcRect l="26240" t="0" r="0" b="0"/>
          <a:stretch/>
        </p:blipFill>
        <p:spPr>
          <a:xfrm>
            <a:off x="2189160" y="1752480"/>
            <a:ext cx="1390680" cy="1257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www.johnlund.com/images/Mushroom-Cloud-Fireball-Explosion.jpg"/>
          <p:cNvPicPr/>
          <p:nvPr/>
        </p:nvPicPr>
        <p:blipFill>
          <a:blip r:embed="rId2"/>
          <a:srcRect l="30371" t="30180" r="19552" b="12362"/>
          <a:stretch/>
        </p:blipFill>
        <p:spPr>
          <a:xfrm>
            <a:off x="3657600" y="1752480"/>
            <a:ext cx="1285920" cy="1295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http://www.betterphoto.com/uploads/processed/0019/0412010829571grinding-11.jpg"/>
          <p:cNvPicPr/>
          <p:nvPr/>
        </p:nvPicPr>
        <p:blipFill>
          <a:blip r:embed="rId3"/>
          <a:srcRect l="21278" t="0" r="0" b="0"/>
          <a:stretch/>
        </p:blipFill>
        <p:spPr>
          <a:xfrm>
            <a:off x="5029200" y="1752480"/>
            <a:ext cx="1549440" cy="1295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http://www.paris-cooking-class.com/wp-content/uploads/2011/11/couteau-tomate.jpg"/>
          <p:cNvPicPr/>
          <p:nvPr/>
        </p:nvPicPr>
        <p:blipFill>
          <a:blip r:embed="rId4"/>
          <a:srcRect l="10827" t="0" r="18008" b="6198"/>
          <a:stretch/>
        </p:blipFill>
        <p:spPr>
          <a:xfrm>
            <a:off x="2189160" y="3117960"/>
            <a:ext cx="1390680" cy="1216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http://www.unlearning101.com/.a/6a00e55291856388330120a82a2676970b-320pi"/>
          <p:cNvPicPr/>
          <p:nvPr/>
        </p:nvPicPr>
        <p:blipFill>
          <a:blip r:embed="rId5"/>
          <a:srcRect l="0" t="12411" r="0" b="4391"/>
          <a:stretch/>
        </p:blipFill>
        <p:spPr>
          <a:xfrm>
            <a:off x="5029200" y="3146400"/>
            <a:ext cx="1549440" cy="1211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http://1.bp.blogspot.com/-n8RPExR2iJc/TmefTzGMZ6I/AAAAAAAAA-M/a2RB4U05LrI/s1600/3leaf.jpg"/>
          <p:cNvPicPr/>
          <p:nvPr/>
        </p:nvPicPr>
        <p:blipFill>
          <a:blip r:embed="rId6"/>
          <a:srcRect l="0" t="0" r="3443" b="0"/>
          <a:stretch/>
        </p:blipFill>
        <p:spPr>
          <a:xfrm>
            <a:off x="3668760" y="3146400"/>
            <a:ext cx="12747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-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754380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itle 3"/>
          <p:cNvSpPr/>
          <p:nvPr/>
        </p:nvSpPr>
        <p:spPr>
          <a:xfrm>
            <a:off x="1101600" y="4267080"/>
            <a:ext cx="69645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"/>
          <p:cNvSpPr/>
          <p:nvPr/>
        </p:nvSpPr>
        <p:spPr>
          <a:xfrm>
            <a:off x="1101600" y="19810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both of these objects take up the same spac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bject is more dense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http://www.caseyswood.com/shoppingcart/zen-cart/images/Wood%20Cube%20Block%20(171B).JPG"/>
          <p:cNvPicPr/>
          <p:nvPr/>
        </p:nvPicPr>
        <p:blipFill>
          <a:blip r:embed="rId1"/>
          <a:stretch/>
        </p:blipFill>
        <p:spPr>
          <a:xfrm>
            <a:off x="2133720" y="4019400"/>
            <a:ext cx="1752480" cy="1697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http://st.houzz.com/fimages/267675_4481-w422-h336-b1-p0--modern-side-tables-and-accent-tables.jpg"/>
          <p:cNvPicPr/>
          <p:nvPr/>
        </p:nvPicPr>
        <p:blipFill>
          <a:blip r:embed="rId2"/>
          <a:srcRect l="4095" t="0" r="0" b="0"/>
          <a:stretch/>
        </p:blipFill>
        <p:spPr>
          <a:xfrm>
            <a:off x="4583160" y="4398840"/>
            <a:ext cx="1170000" cy="9702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4267080" y="4019400"/>
            <a:ext cx="1752840" cy="1697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666880" y="5716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2"/>
          <p:cNvSpPr/>
          <p:nvPr/>
        </p:nvSpPr>
        <p:spPr>
          <a:xfrm>
            <a:off x="4767120" y="5716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Density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Density is a physical property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Densit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amount of matter (mass) contained in a unit of volume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The density of solids and liquids is usually measured in grams (mass) per milliliter (volume)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Bookman Old Style"/>
              </a:rPr>
              <a:t>g/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For irregularly shaped objects, </a:t>
            </a: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water displacement 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s used to obtain a volume measuremen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rmula: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314360" y="5029200"/>
            <a:ext cx="3105360" cy="990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5486400" y="4743360"/>
            <a:ext cx="2187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Density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Examples…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What is the density of a piece of wood that has a mass of 25.0 grams and a volume of 29.4 cm</a:t>
            </a:r>
            <a:r>
              <a:rPr b="0" lang="en-US" sz="2300" spc="-1" strike="noStrike" baseline="30000">
                <a:solidFill>
                  <a:srgbClr val="1f497d"/>
                </a:solidFill>
                <a:latin typeface="Bookman Old Style"/>
              </a:rPr>
              <a:t>3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?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I threw a plastic ball in the pool for my dog to fetch.  The mass of the ball was 125 grams.  What must the volume be to have a density of 0.500 g/ml?  I want the ball to float, of course!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If you haven’t done so already, read pages 34-44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With the reading, slides #32-34, and your notes,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you should be able to complete homework #5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e proud of yourself, you just made it through your first unit in chemistry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03" name="Picture 5" descr="smiley-face"/>
          <p:cNvPicPr/>
          <p:nvPr/>
        </p:nvPicPr>
        <p:blipFill>
          <a:blip r:embed="rId1"/>
          <a:stretch/>
        </p:blipFill>
        <p:spPr>
          <a:xfrm>
            <a:off x="3581280" y="4648320"/>
            <a:ext cx="1521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-152280"/>
            <a:ext cx="71344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6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505" name="Title 3"/>
          <p:cNvSpPr/>
          <p:nvPr/>
        </p:nvSpPr>
        <p:spPr>
          <a:xfrm>
            <a:off x="824040" y="4813200"/>
            <a:ext cx="696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List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which of the following represent a chemical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http://edu.glogster.com/media/1/9/42/67/9426718.jpg"/>
          <p:cNvPicPr/>
          <p:nvPr/>
        </p:nvPicPr>
        <p:blipFill>
          <a:blip r:embed="rId1"/>
          <a:srcRect l="0" t="7908" r="0" b="16925"/>
          <a:stretch/>
        </p:blipFill>
        <p:spPr>
          <a:xfrm>
            <a:off x="2243160" y="2232000"/>
            <a:ext cx="1390680" cy="1295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http://chemicalreactionforchildren.files.wordpress.com/2011/03/chemical-reaction-gif2.jpg"/>
          <p:cNvPicPr/>
          <p:nvPr/>
        </p:nvPicPr>
        <p:blipFill>
          <a:blip r:embed="rId2"/>
          <a:srcRect l="0" t="0" r="0" b="8338"/>
          <a:stretch/>
        </p:blipFill>
        <p:spPr>
          <a:xfrm>
            <a:off x="3736800" y="3614760"/>
            <a:ext cx="1222560" cy="1125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http://img1.etsystatic.com/000/0/5539790/il_fullxfull.187804617.jpg"/>
          <p:cNvPicPr/>
          <p:nvPr/>
        </p:nvPicPr>
        <p:blipFill>
          <a:blip r:embed="rId3"/>
          <a:srcRect l="4825" t="11610" r="8419" b="3843"/>
          <a:stretch/>
        </p:blipFill>
        <p:spPr>
          <a:xfrm>
            <a:off x="5062680" y="3598920"/>
            <a:ext cx="1547640" cy="1125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http://www.photo-dictionary.com/photofiles/list/3237/11211sawdust.jpg"/>
          <p:cNvPicPr/>
          <p:nvPr/>
        </p:nvPicPr>
        <p:blipFill>
          <a:blip r:embed="rId4"/>
          <a:srcRect l="-1709" t="9783" r="1738" b="19390"/>
          <a:stretch/>
        </p:blipFill>
        <p:spPr>
          <a:xfrm>
            <a:off x="3719520" y="223200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http://www.astrospectacular.com/wp-content/uploads/2011/10/fireworks-shows.jpg"/>
          <p:cNvPicPr/>
          <p:nvPr/>
        </p:nvPicPr>
        <p:blipFill>
          <a:blip r:embed="rId5"/>
          <a:srcRect l="0" t="0" r="9252" b="0"/>
          <a:stretch/>
        </p:blipFill>
        <p:spPr>
          <a:xfrm>
            <a:off x="5062680" y="2247840"/>
            <a:ext cx="1547640" cy="127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http://c1craftingagreenworldcom.wpengine.netdna-cdn.com/files/2011/07/dyeing-play-silk-with-kool-aid-tutorial-1-of-7.jpg"/>
          <p:cNvPicPr/>
          <p:nvPr/>
        </p:nvPicPr>
        <p:blipFill>
          <a:blip r:embed="rId6"/>
          <a:stretch/>
        </p:blipFill>
        <p:spPr>
          <a:xfrm>
            <a:off x="2265480" y="3614760"/>
            <a:ext cx="13683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 Scientific Metho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809640" y="2506680"/>
            <a:ext cx="752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Theory vs. Law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Theory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n explanation based on many observations and supported by the results of many experiment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Scientific law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:  is a fact of nature that is observed so often that it is accepted as the truth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2163600" y="3295800"/>
            <a:ext cx="3129120" cy="3084480"/>
          </a:xfrm>
          <a:prstGeom prst="ellipse">
            <a:avLst/>
          </a:prstGeom>
          <a:solidFill>
            <a:srgbClr val="4f81bd">
              <a:alpha val="51000"/>
            </a:srgbClr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3568680" y="3324240"/>
            <a:ext cx="3129120" cy="3083040"/>
          </a:xfrm>
          <a:prstGeom prst="ellipse">
            <a:avLst/>
          </a:prstGeom>
          <a:solidFill>
            <a:srgbClr val="4f81bd">
              <a:alpha val="46000"/>
            </a:srgbClr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511440" y="4375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Arise following many, many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extBox 14" descr=""/>
          <p:cNvPicPr/>
          <p:nvPr/>
        </p:nvPicPr>
        <p:blipFill>
          <a:blip r:embed="rId1"/>
          <a:stretch/>
        </p:blipFill>
        <p:spPr>
          <a:xfrm>
            <a:off x="1828800" y="3103560"/>
            <a:ext cx="1395360" cy="1425600"/>
          </a:xfrm>
          <a:prstGeom prst="rect">
            <a:avLst/>
          </a:prstGeom>
          <a:ln w="0">
            <a:noFill/>
          </a:ln>
        </p:spPr>
      </p:pic>
      <p:pic>
        <p:nvPicPr>
          <p:cNvPr id="374" name="TextBox 15" descr=""/>
          <p:cNvPicPr/>
          <p:nvPr/>
        </p:nvPicPr>
        <p:blipFill>
          <a:blip r:embed="rId2"/>
          <a:stretch/>
        </p:blipFill>
        <p:spPr>
          <a:xfrm>
            <a:off x="5924520" y="3249720"/>
            <a:ext cx="1189080" cy="1571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1924200" y="44877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092560" y="4487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Benchmar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f you haven’t done so already, you can now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mplete homework #1, part A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Review slides 3-5 and your notes to help you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swer these questions.  You will not find the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swers in your book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Exit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1001880" y="1295280"/>
            <a:ext cx="716256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d the following experim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ria wanted to find out if the color of food would affect whether kindergarten children would select it for lunch.  She put food coloring into 5 identical bowls of mashed potatoes.  The colors were plain, red, green, yellow, and blue.  Each child chose a scoop of potatoes of the color of their choi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What do you think the results would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 for this experiment using a “If…..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Warm up Question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7467480" y="76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brlgc.files.wordpress.com/2012/04/diamond-gemstone.jpg"/>
          <p:cNvPicPr/>
          <p:nvPr/>
        </p:nvPicPr>
        <p:blipFill>
          <a:blip r:embed="rId1"/>
          <a:stretch/>
        </p:blipFill>
        <p:spPr>
          <a:xfrm>
            <a:off x="3124080" y="2224080"/>
            <a:ext cx="3276720" cy="2664000"/>
          </a:xfrm>
          <a:prstGeom prst="rect">
            <a:avLst/>
          </a:prstGeom>
          <a:ln w="0">
            <a:noFill/>
          </a:ln>
        </p:spPr>
      </p:pic>
      <p:sp>
        <p:nvSpPr>
          <p:cNvPr id="384" name="Title 3"/>
          <p:cNvSpPr/>
          <p:nvPr/>
        </p:nvSpPr>
        <p:spPr>
          <a:xfrm>
            <a:off x="1143000" y="4910040"/>
            <a:ext cx="6966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Write 3 words to describe this sub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Matter &amp; its Properti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Chemistry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is the science that investigates and explains the structure and properties of matter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tter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anything that takes up space and has mas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9646"/>
                </a:solidFill>
                <a:latin typeface="Bookman Old Style"/>
              </a:rPr>
              <a:t>Mass</a:t>
            </a: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 is the measure of the amount of matter that an object contains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Bookman Old Style"/>
              </a:rPr>
              <a:t>Mass is not the same as weight.  Weight is affected by gravity where mass is not.</a:t>
            </a: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Bookman Old Style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1" lang="en-US" sz="2600" spc="-1" strike="noStrike">
                <a:solidFill>
                  <a:srgbClr val="f79646"/>
                </a:solidFill>
                <a:latin typeface="Bookman Old Style"/>
              </a:rPr>
              <a:t>properties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of matter describe the characteristics and behavior of matter, including the changes that matter undergoes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01:10:21Z</dcterms:created>
  <dc:creator>Brandon Jones</dc:creator>
  <dc:description/>
  <dc:language>en-US</dc:language>
  <cp:lastModifiedBy>Dawn</cp:lastModifiedBy>
  <dcterms:modified xsi:type="dcterms:W3CDTF">2013-09-02T18:10:22Z</dcterms:modified>
  <cp:revision>62</cp:revision>
  <dc:subject/>
  <dc:title>Chapter 1</dc:title>
</cp:coreProperties>
</file>